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79A-2054-4490-8FB1-9CCB2EDF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F9D1-2E35-49CD-A025-6F3C7193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BBAB1-EDFB-4855-868D-A40EB88B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DEBFE-3D81-4088-98AA-1F3033BB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DF10C-5CEB-41D8-9CCE-47F72741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6CBEA-747D-4CF4-9DF7-F7AD9BC0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14B1B-0FDF-4A22-A59D-A772E0DE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6DD8A-DE0F-47A6-BAD7-9FEEA1C9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FBB80-6A3A-414E-9956-4FD23612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72F46-9ABD-4DCB-A724-3BD37326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8693B-DE2F-47D5-AA3E-677D6A69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0D265-8D19-4CA3-AE3C-30BB5FA6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BA6-22B4-434C-83A3-71563A1C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3230C-C271-4C8A-BE33-6E01133F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6AC60-DC73-493A-908A-B9879FB7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48789-5345-46D0-873D-99CCCAAF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A016E-E804-460A-9419-0F74AF35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AAAE4-974C-4AF5-B11A-A5DF3326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914D5-8B93-4F13-A833-1017F6CF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487B8-C11D-4C25-967C-DA3636D5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6F36D-9D58-42E8-911D-8B9DA45A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15B5B-AF5A-421E-9FE4-EF58CFEF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7F2F8-8524-43D7-8F20-E3C3952D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6F9-06EC-4CF6-9564-DB13FDC3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246E1-690E-47E7-B655-D5827769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C1645-52BC-4E42-9ED7-EFDF16AB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5293D-F1DA-40A2-9895-5EED9626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7B119-7B0C-4B98-96C2-F3E1401F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0D15C-95C8-4231-ABA5-824CEB10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350C2-7A1A-434A-95D3-D4EF579C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5B2B0-1B24-4AD6-810F-4FCE5AE4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F2284-F3F9-452F-8E0D-37A9F520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7E2A6-4A81-4CE1-86B3-978B634A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3181F-1789-4063-9ADC-7257E766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E951-627B-4381-985C-47FCC723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87602-7E91-42A1-A5F7-4CCB1129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FDD51-73E3-47D3-BA33-7B8AB02E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AD6C7-7916-4294-BF76-89EC6A51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56541-FF06-4ACB-BEA9-53EAE995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43692-0569-4403-85ED-2E3A6CE0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10D6D-DC36-4305-893B-4C2ACBB5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C40E4-823C-4125-8154-FB23F721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5EAE0-7E85-4CD8-95FB-E3FC78FD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CB39F-A1F4-4B57-9EB4-FF82C89A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3A256-DDBD-4FB9-82E8-0666A894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7C7A-4A61-4EB3-B75C-D318E25E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E5DD6-AC92-407E-B252-5B966A41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2097A-657B-45A6-9CAD-EF0898E0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14F9A-0B58-465C-B052-BE1660FB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62474-719E-408D-AF77-C61DDB3B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98C9C-DA55-4FAE-9311-5823D187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F5BDF7-2BC9-46C9-8DCF-518F8443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2FB8B-F9E9-4BED-B0E7-A1123E6A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60150-E54B-4DED-8952-98F0D61B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540E08-F5EA-4F6F-83A8-563AB174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81FBA-D2A0-4584-A33D-0C9A3D10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7BE3-3DDA-49F3-A826-F60C74C7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E5DDA2-A06D-4405-8197-85A8088B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4700C-8A13-4008-A915-639862DE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275E6-9F27-4935-BDD9-B2CDD964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C8711A-97D2-4BA7-BF05-5194B97A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DDBF7-291E-478A-BFE7-08B09D17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9CD8B-6268-49A6-890D-2999718B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E9093-7325-4EC5-A90F-CBFCE242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DD39F-54F5-46B7-84E9-30110AF6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A0C84A-C387-4A68-B78C-7E9DFFC6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D59656-11A2-4FB6-9422-38997709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5BA8-3F88-4F85-B1CC-2E4E2436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4BE63-AF86-4980-AF7E-2E200ECE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40AB57-50D3-44FC-B21B-588DB691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353EE-C024-4D28-BDA0-4F56E3E7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281BF-266A-4A3F-B567-8F912807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5B5CF8-DE56-40BA-84BD-E4D3505C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7B3B2-7311-4025-8FF4-539C71BF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0F865B-BC9D-436F-9BB5-93CD31A4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51C436-36EF-40E3-95B0-11F10D14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CAF9B-7417-4123-85B3-A26C72AB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3B737-E71A-41CB-8A20-1281663D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016A-541E-4440-8A24-94F34CE2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4DE1F3-BE57-47D1-B7C7-8C5BD4F3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B0DED-7F1B-46CB-930C-D6A28CDA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FC5A63-AB79-4873-B634-56EDE346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575CD9-5E7E-4ABD-8A62-84162C60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893D44-AF5B-42DE-88DC-A3B548F4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A5F85B-A6CF-4EE9-9DA1-37687E59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094024-83EB-4F7E-B628-540EA517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9D19D-9054-498B-B151-F7828866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D19C1C-8ECF-4EFB-BEAF-702613E0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3F55D0-1030-4A4F-985E-AE730D4C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2A2A-0A49-416E-B5F9-91F40D13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9FE98-0EBD-4F41-AEB8-8237515E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8F83CE-EBFE-416A-A1FD-34A3A603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3F8587-2D31-4BA9-81B0-01BA9517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84B2D3-1F77-4B4B-B95B-EE5347F1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720052-3AC4-4820-AA15-46154B73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A37F47-81EE-4258-B83C-13B29569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3097D-A173-45DE-BDE4-19284C7F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464098-EE84-4BB2-9C0A-8816E7C2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665762-E845-4BEE-BD6D-38C1BE08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B6BD43-0899-4CEB-9ECD-122995F1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1AC0-EFF4-4232-BC17-7568C07C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571E25-F3BA-4629-88FE-A343B89F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5104C2-36BC-4170-BDB4-C4175B1A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D41141-258D-4558-9E38-574BEFC1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34AE46-5809-4475-8BC7-B565A25A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321B6F-8FE2-48A5-BD3D-7EDFEDD3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10A742-AF91-4144-AD77-B5A4AA16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260277-1960-4564-904A-08112A53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A6F76C-697B-44B6-AD9D-88BEC804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6E1A4C-82F6-4CC6-9164-F89A2DBF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F42CCA-AB5E-458F-9911-D9C3A436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35B-A9E6-486E-835D-61DF5B21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0618-5A0C-445F-A262-DD56F569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0423F4-ED90-4868-9351-E36F1451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394133-44D2-4AF0-8966-199EE776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73E252-C58C-424B-9529-8990B807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8A306F-1FE9-4D2C-8628-012C50C4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74C1B4-CDFD-415D-B4A8-92CBC5CF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15A918-2A35-476F-9AE6-6490F174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60816A-8EE8-40D0-89B4-9CD20922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305B50-ACC0-426D-8DAF-9715BE8A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2FB01A-0F58-47A0-B900-11800DA5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4FCFB9-7A81-4115-8CAA-0CB71E0E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6A2E-ECC9-42FD-AB1A-0571B541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FBADE1-E63A-4EE9-BF20-9383B429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FB343F-DEB6-4229-9BF6-CDCF9204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FBE4F1-602A-493D-92B2-FBE92F7D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E3DDBA-A273-4953-BA2D-10570358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7C325D-56E6-4C79-8E4F-A7009BA7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AB57A9-235D-4049-BB9D-91C7B887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EA5961-0BAF-4B35-878D-53331ED5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71BD12-AB72-44DA-8F67-E7D993CD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8CB2D7-98A8-4E8B-89A3-9EFE3852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00E19D-3FD4-47EB-8BB6-86A923B8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D4BA-4DB2-44CA-BBD8-B8EF14D6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6C1748-AF96-48EF-9E6E-CBF9A25D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4ABEEE-EC68-4BB9-9037-73275766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78CDA7-347D-43FD-9955-7357A2D7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CE676B-AA47-4296-AC74-3CF5AEAA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75EAEB-761F-43B1-B063-532E13FD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CA253C-F17D-464B-969C-A30258F7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F91D31-54C9-4110-AE9C-656DBB55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A0D861-8DF7-49B1-BA2E-8F15FEE3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753F8D-013D-48B0-AE3E-618DC2CC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A9BB95-68AA-4DCB-A64C-441C4757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EC41-C332-4321-8FB3-AB72B97A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E9A307-FF21-43DD-A122-2B0FEBF8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E361C1-CF7A-48D8-953A-00186496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26A93A-05BA-4352-9AFE-41620C5A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6B2346-9BC4-41E2-B707-9BCEFACC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E907B8-8794-4756-97F8-68868478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51361C-0D37-486C-A873-FCE85C0C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DD1223-578B-4667-8065-63A67FDD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6F857B-F350-4A44-9948-8E157A6A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C2E824-B090-47D6-AD5D-F81DF674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427F4D-4D46-4D9B-B61D-37DBA98A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F46D-C30F-4E41-95DC-3FCCA892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2EEED5-015E-446D-9E99-706D7D2E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32626D-1FB3-4143-8E0F-7BF289FE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A8431C-E5E6-4905-9FB4-384C3E69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4AFFFF-540D-4C91-90F2-14623C5B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128101-0534-4213-90E7-090B3E78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3239C2-98C6-446E-9E9C-65EC4D5F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B587C2-353C-4A45-89D9-8716B60F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15D205-42B0-4AD4-AECD-389A8C1E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960257-4731-4BC4-AADD-94E5414A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6824E6-5E44-4AD3-A409-24BD458C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06D3E-9C1E-4483-9CA1-558B69E0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55DAA2-C3DA-458B-9059-FEDD9625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F4525F-9055-4D45-9533-4C117806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A3BB2B-CFE9-4B79-8515-F26B26F0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CBD5AB-3335-420D-806F-AC2CBCF2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3EB0D1-F1F9-4267-BB67-AC88E75B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B2D10B-40FB-4D72-99D2-E74C6548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465AD6-3C5F-4993-A30D-46F789FC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7AF4DD-D749-4357-AC7D-23D60414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C20E23-78B0-46D1-93AA-E2452640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255606-B618-4BF2-B535-4E5B44B7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30E18-07C0-4B9A-AB30-B4AE758A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377975-9184-417A-8EE0-47E37245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C9D303-2805-4B39-B7CD-A627409A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0A08AA-60E2-491B-A672-3DA4631F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499531-842B-48D2-9CE3-2BF94FD7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78230F-9E47-44C1-A4D8-0B58B225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8A8850-1C15-48B3-8C88-57061639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F87D12-F54B-4C49-8C87-4927407A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CEF078-2410-4619-A228-9D3840A2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CC48AB-3DCC-413E-AD46-859DF36A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F312D6-A218-495E-8DB3-A9C89831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64DC3-CE9A-4961-9020-B1F0EC0E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B7FD7E-CF7F-4A0E-90ED-9D378210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6DA28D-28C0-4C85-9867-3A0CB10E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1B5667-E027-46C4-AA4F-42A298AC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1AF9FE-BDFE-4FB1-822B-749EF972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89D303-DDD8-4ABF-BB1C-99F5CC35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7F9993-9487-49C7-8680-A4AA4BF2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467433-ED9C-4544-AC59-64D2EDE1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92DC06-A9FB-4879-838A-09F705C3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2F4F82-062D-405D-866C-6BE69603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70FA1B-3D9E-4413-AE05-1A0997AB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5A5E4-01F2-4E24-A158-4323D69A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126979-5AAC-4979-8803-EC2B8C74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3C1A06-9327-4E3D-8EEA-6F15D998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1EEB50-9FF1-428F-AE94-75BD6A9B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11DA2F-DF0A-44B6-B6F4-CD3BA7E6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CE6BCB-30F4-4364-8138-9BEE9DC2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1F577E-5858-4049-8C9E-F0AE6C19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A30171-5B2E-4494-8BF8-07DD3421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B4075D-95C5-41EA-A66C-C0201123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E0F8C1-05E4-44BD-9BD2-A39B56E1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85B85F-FC16-4E05-9DB4-F084B5C8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09C31-405C-4D12-A91B-221B07C0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C0F530-0BB0-45A7-A428-94717399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A1DF0C-EA9D-45AD-9986-43549A00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F2E9ED-6A06-46C1-A5FC-C0291572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F11213-A423-4862-85CD-461FB1D6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C37BB7-BAC4-4550-99B3-7FD60A17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F7DB39-F299-405F-ABEE-5C538CD4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592D4B-53E7-4A9B-AC34-1EFCB715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1D1A8D-4F46-4613-B41C-E3530E2B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3E4593-B0DD-4812-99B5-7E4A3CFA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8A0698-0C6C-4A2A-8F6F-6232F71B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E60-5C71-40F8-8EA6-747C66B3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838A-D647-4D75-87E1-26698BB0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8FED7C-849D-46A3-B90C-4A7228A3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F7A085-1C00-419A-87EE-0B20F101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B14170-07C4-4AB0-BF6F-43378897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5A8110-26FA-4D5A-954C-1470ACD3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038D61-75A8-4094-B469-156F9742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A608A7-52D2-40D7-B577-CEB91A4B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5AD40C-AAAA-477E-861E-DCFDF7A7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F34E26-9C78-4269-991F-CA632054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C94FFD-5CB2-4332-B200-3C4D54BB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72646C-CD70-4C4F-9D09-CFBC4631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DD93E-3C5C-49FA-A7C6-D922C538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929E44-76BB-4475-96AD-C0768A45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1E3DB4-53A2-41A6-8FF0-E3018ECE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06B1C7-FDF0-490E-8355-774C5B9B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273580-BFEE-4B9A-9BE9-001A3B82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706E6A-4F9E-409E-8B3A-39905A86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218576-3A15-4978-93A8-DD06E31E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CAD54D-1782-4440-B23F-877A13C5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91EC75-812A-46E4-8E6D-E31AF84E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B715EC-DF58-4D6C-AB93-8C03732E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8C8B94-C3FE-42B5-ADEA-3D118515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F71B8-B9F1-4F25-A365-0CE39ECE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26F850-2A99-40A4-95C3-4B3CE1E2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F9E41B-4E64-4984-820B-939E619E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D1692B-80EE-4710-BFB5-71B5585F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7089AF-7E1A-4F64-BFE6-A5395D82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0F3A7F-03AE-4868-B164-9F8AE0CD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BE2D68-35E9-4BD4-98CE-EC368A30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A396C4-78E9-400B-814E-55224A54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DBE346-5961-42DA-9E9B-1AEFC482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95162B-50E9-4058-AE33-B87911CC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6A9D30-8C28-4574-989F-0AB88DF0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B6DB6-953D-4AE6-8E47-74E4DF2A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8974AB-5DF2-49D4-A3D2-53FB6770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AE544C-7022-45B3-8A5B-D4EFD8B3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47B7E5-FB98-45BF-BA48-FAF29A5E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B5CE2B-EF7E-42E2-88A0-D85CD3FD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F3A0B3-40F6-4513-AE05-49B012DD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3607D3-5E2F-4AAD-86EB-DBE1AC74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27522E-448A-45A6-A567-2D3CCE06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650DAC-F3BC-42C4-87C5-1B10DE37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446801-D100-40A5-B8B6-EF8D8F10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755452-B678-4B2C-AB53-4A80D227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1D669-A65B-452F-83EA-FA2BA672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AEDE3C-1417-4AF4-B7F7-43D07274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CBF039-D81C-420A-853D-CC202EC5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82FAE8-604E-4178-BEB7-4AD93A9F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2DAD40-3639-4622-8ECA-F2DFDDBE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6A178C-D5FF-46F0-9941-58BE8E7B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443A24-13A0-4AD2-B530-90A17C50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77FEB5-10C5-4644-A0DC-C532C5DD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1FD25B-989A-4E5E-B822-D934BDDC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D02D4C-A1D0-4871-B3FA-C81568D6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D563FF-108D-4B04-AF51-26F1525A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57270-9903-43C4-91CE-1A043364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9AFBB0-45C9-47C7-B4A6-91E59326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54E77C-A456-4F9E-B7B4-A23A4A3F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F124AF-6FE1-47FB-B584-FF9CACD5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9CDB13-AE80-4572-BEBB-1398B1F4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BF9903-40EC-424A-A62B-BCB5E3B5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1B65F9-F6CF-4FEE-B86E-0F930D01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6DE3C0-6AE2-4C47-B4A4-4C0527A8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86A17F-5AD1-4A74-84E8-9BF03E4B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3BC13B-0652-4CA6-BD99-CAB06C42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F147DB-BBB3-42E4-A4DE-168A6A15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5CECB-6989-4D1A-ACD4-08ABB81D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8B1A94-689A-4064-B51B-D617BB3A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B8FF9C-100A-42FC-AEAD-6BEA9F16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BDDFA3-A8E0-4670-A5E6-56977820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5A0753-6268-4402-A4E3-89748F3A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A99C98-979A-485B-A749-87EAF4D9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F7F62F-E964-4B75-BF25-F3C45445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399535-FB0A-4F30-A12D-0F335363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275BCA-8D1D-4122-A28F-75B48107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F8547F-D922-48E7-8FA2-F7777DDE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0078DF-1DBA-42CE-9AE3-EFA2BE18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ABD8B-95EB-47C6-8D7F-7E0F218C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4ACA81-4EBA-44A0-B6EE-A641B0DC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2185AE-F2E7-4E2A-93D0-C2ABF493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3B4F8F-1467-46C3-9993-DE6E68B5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54E60-49C4-4127-9AAF-2EB599A9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3D184-66C2-4B83-9735-973CC069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7FAE-F1A7-44C8-85C3-BF95D08D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CA186-E90A-4AC4-8400-1794C014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F9813-942C-4AF1-BA07-2FE9E88A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438E1-BA6B-43DF-A6B1-608C77B5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78B02-419B-42F8-95CC-DEB5D3C7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623A7-CBAE-434D-8E11-9C228685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CDE8E-50EC-4294-B8EA-3332AD44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26E9F-D72F-460B-A0EC-080D1714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F03EC-2C04-456B-9392-F6558DE2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3E8F5-F26B-4033-A5ED-DD9BB8A6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C85BD-773E-4085-902D-72DF1861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B0C-CBBD-471B-97EC-00B7A5F9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ED7A6-AD2C-494B-9479-391DE09A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9E411-D936-4DF4-B369-7E11CB37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2CAD3-3127-4A56-A4AC-E732C3BC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6F214-3FA9-4DF9-A8B1-7F83CE3B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D8F23-4D86-450D-8793-D71FFC00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85DE8-4267-45A5-A6F4-8906D014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D99A8-F7E3-4A98-8088-12FE9194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759DB-103E-49DE-B2FC-4454EFFD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2BE1F-8A6F-4FEA-9B9A-1E374473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F6133-F8CC-4C36-8202-D7BEF5AB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175-6016-4BD9-B61C-A05508A9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345BE-462E-42C1-AB5E-7A6CD1E9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13970-CEB6-439F-9467-18AFCB65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EF96F-1A7D-4634-9D60-E6811B76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E28B5-52B9-4FB9-9207-2C3650FF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3FD73-36CA-4510-848C-3F3529A2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219FD-596C-4643-B769-07802BD4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B5AFA-D9A9-4829-B540-A1DA3E73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EE271-245D-4491-A2E1-9D4C1E43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7C846-9B58-4EB6-9B56-1844EBE9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BB8EC-40E0-4816-BEA9-C8266E4C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C38-A5E6-44F6-9E89-F9718E3D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52A36-0985-48D9-82E8-7C0F99D8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F998B-10E0-4F25-8E2A-A9F8C116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63710-FBB7-49B9-AFFB-AE7E5295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035D7-731F-48B7-8369-55EDD424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637CC-E05C-4968-A6BC-BE53E60F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986E5-EFDE-471C-A0BE-868F64ED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5B02B-45C8-4095-ABCF-7DCAC331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16934-1A4A-4C05-BC67-29EBBE36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68CD3-4B2E-4C73-B612-6A2418EA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4BB60-E00A-493A-A7F2-69F59D0B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037-6047-4734-923C-3FE697B3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6D98B-8310-4290-8913-1DBB591B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36D65-4DA2-4ECA-862B-669AD812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A0DB4-9D64-4C02-8064-0FA34F58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86164-DD84-429D-B9BA-C6D1E112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B8865-6C9D-4E88-90E9-51453BCB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C86B4-A64D-43F6-B857-D7B74E1A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35104-7B10-41CA-BD10-B6EF254B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9F41F-8EEF-4DD2-91D6-5FF7C2C1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8ABD1-EF7D-46EF-91EC-A628824A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11EE0-935C-4F26-91E7-AF581DCA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841-477A-4FE6-9B26-F9879607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D8C87-994C-428C-947F-64FF11DF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3EC64-E998-492E-821B-BB20D0C3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5303B-6C1D-43DA-9162-9818C5C1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76ED8-F29A-416A-A766-D9F66539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9C1CD-654B-4847-9FF2-2B7E4F59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D9F86-D173-4A14-838C-DF7AFE7B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A9038-998F-4370-A7F9-96D7B3F2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6C0B5-6D5F-4178-8510-D359DDEA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BBB52-E9EA-4DAD-9BB8-4B4469C7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7305C-5C6C-456B-B7B9-EC1D8EF0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C62F-BECA-40D7-B245-0BC4671D797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9633-2B42-40FD-A76F-4BED126565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4407-1053-4E8F-B879-321664C84E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EB77-00A4-460A-8CCE-D2DA1CA0C5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2602-5A0F-415F-8512-FF80BEDACA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E41E-3E60-4DE4-BECE-E9C72A75CE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E4DD-4A9C-4C8E-A25E-7A5F9AED03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97E9-86D7-4116-B0E9-F55A487592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9AA3-8BBB-4A04-A777-D9B9440C3C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ECC3-83FA-4117-9F0F-0A232352AA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D67B-EB08-4F60-ABEC-9306C79069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57F6-45E4-4CD0-B202-484F6AF2CC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211A-044F-4F7A-BC3F-37DC1F1EF4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3864-50D1-44AA-8F31-FEB0C29AC2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21C9-3F59-4FEE-A3D4-294278B585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7FDB-9563-414F-B36D-D4F5C30CCD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79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3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文本框 25" descr=""/>
          <p:cNvPicPr/>
          <p:nvPr/>
        </p:nvPicPr>
        <p:blipFill>
          <a:blip r:embed="rId2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799" name="文本框 47" descr=""/>
          <p:cNvPicPr/>
          <p:nvPr/>
        </p:nvPicPr>
        <p:blipFill>
          <a:blip r:embed="rId3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9" descr=""/>
          <p:cNvPicPr/>
          <p:nvPr/>
        </p:nvPicPr>
        <p:blipFill>
          <a:blip r:embed="rId4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51" descr=""/>
          <p:cNvPicPr/>
          <p:nvPr/>
        </p:nvPicPr>
        <p:blipFill>
          <a:blip r:embed="rId5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2" name="组合 5" descr=""/>
          <p:cNvPicPr/>
          <p:nvPr/>
        </p:nvPicPr>
        <p:blipFill>
          <a:blip r:embed="rId6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5BF7-B924-4B63-8505-C5AD05B93B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068C-F652-4B7E-95D2-95B16878AF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9F73-327E-4A7A-8306-0379C02080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E40B-E363-4BC5-A618-43B940E347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0EFC-5505-4328-A88C-2304AA5AC6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DA80-7FDE-4A1E-9A46-463C90A336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7F91-8B73-4C8C-AED6-309DF66DC4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22C1-A4FC-4A97-A3F5-05C7F4634A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54C6-F582-4487-B1D7-ABF6593806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AFB5-5E4B-4DE1-8372-3458737BD3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9690-57DC-4599-A0DA-679ABED985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BCD6-22B8-4A97-81C7-09E9CAE834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6840" y="305280"/>
            <a:ext cx="1312560" cy="1675440"/>
            <a:chOff x="6840" y="305280"/>
            <a:chExt cx="1312560" cy="167544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5440" y="135576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58480" y="391680"/>
              <a:ext cx="72864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0640" y="32292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4680" y="842760"/>
              <a:ext cx="40032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4040" y="149004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6624-71F9-4D54-8C4B-B8F6D4A106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E534-1B5F-49B8-A01A-02C7A5E32A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5440"/>
            <a:ext cx="1127520" cy="1044000"/>
            <a:chOff x="8055360" y="5725440"/>
            <a:chExt cx="1127520" cy="104400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040" y="5725440"/>
              <a:ext cx="597960" cy="968040"/>
              <a:chOff x="8456040" y="5725440"/>
              <a:chExt cx="59796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3920" y="632916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7120"/>
                <a:ext cx="544320" cy="42948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680" y="576576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720" y="6070680"/>
                <a:ext cx="299160" cy="23868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0680"/>
                <a:ext cx="32256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4040"/>
              <a:ext cx="1127520" cy="905400"/>
              <a:chOff x="8055360" y="586404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4840" y="5953320"/>
                <a:ext cx="544680" cy="7261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56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9564-A342-444C-B9A8-2ECC6A85F6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5950-DC14-4D7E-A2D1-62E33F0DD0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D0FB-CEAE-4CE8-8C9A-498EB845A2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BABB-2F34-4D5D-8A4A-0460410CD9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120" y="5384520"/>
            <a:ext cx="997920" cy="1126800"/>
            <a:chOff x="18612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3680" y="5384520"/>
              <a:ext cx="616320" cy="1043640"/>
              <a:chOff x="283680" y="5384520"/>
              <a:chExt cx="616320" cy="104364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1080" y="604548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9320" y="5536800"/>
                <a:ext cx="545040" cy="42948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1560" y="5435280"/>
                <a:ext cx="221760" cy="1706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760" y="5771160"/>
                <a:ext cx="299520" cy="23868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480" y="6157800"/>
                <a:ext cx="32328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120" y="5572440"/>
              <a:ext cx="997920" cy="938880"/>
              <a:chOff x="186120" y="5572440"/>
              <a:chExt cx="997920" cy="93888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2320" y="5643000"/>
                <a:ext cx="544680" cy="72720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520" y="622008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2000" y="6239520"/>
                <a:ext cx="17460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05CA-ABDF-4BA6-B1F5-82D53CE986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354C-8593-4285-9C11-521595161D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34CD-DD0C-494C-989B-43E90F7012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5F82-8493-4F12-8857-382C9FDFCD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4213-AB5A-43D3-B419-EAA13B4C0A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8FEF-99AD-45B7-B246-2396951C45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349E-F621-40AD-92D5-27FEEEB1C16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82E1-2F1E-4B3E-B75C-4EC084A120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7543-9C49-4979-904A-CA31555524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EDA6-DBB9-43AD-8B46-419A0D85CC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4680"/>
            <a:ext cx="2348280" cy="2297160"/>
            <a:chOff x="7144920" y="441468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2880" y="4414680"/>
              <a:ext cx="1362960" cy="2297160"/>
              <a:chOff x="7652880" y="441468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440" y="587124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040" y="475200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040" y="452736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160" y="526716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240" y="611820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AE89-C0C6-43A2-83B2-FC7301ECEF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FA55-F800-4536-A93B-A68B1298E6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DAD3-71C1-431F-B547-DECCB303FF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54CD-85A7-41FE-87FB-4A000F711B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A8F2-5AEB-4F50-8D7A-8139E0AD5B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0238-03C1-4081-A2FE-4FA9F98540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D7C8-09A0-4419-BC70-7EAC996D77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9D7C-3BBF-4D6E-88FE-61D94AFD48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78" descr=""/>
          <p:cNvPicPr/>
          <p:nvPr/>
        </p:nvPicPr>
        <p:blipFill>
          <a:blip r:embed="rId1"/>
          <a:stretch/>
        </p:blipFill>
        <p:spPr>
          <a:xfrm>
            <a:off x="1585800" y="2506680"/>
            <a:ext cx="57643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69633" descr=""/>
          <p:cNvPicPr/>
          <p:nvPr/>
        </p:nvPicPr>
        <p:blipFill>
          <a:blip r:embed="rId1"/>
          <a:stretch/>
        </p:blipFill>
        <p:spPr>
          <a:xfrm>
            <a:off x="2038320" y="2395440"/>
            <a:ext cx="50673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68609" descr=""/>
          <p:cNvPicPr/>
          <p:nvPr/>
        </p:nvPicPr>
        <p:blipFill>
          <a:blip r:embed="rId1"/>
          <a:stretch/>
        </p:blipFill>
        <p:spPr>
          <a:xfrm>
            <a:off x="247680" y="2109960"/>
            <a:ext cx="8648640" cy="263808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1" descr=""/>
          <p:cNvPicPr/>
          <p:nvPr/>
        </p:nvPicPr>
        <p:blipFill>
          <a:blip r:embed="rId2"/>
          <a:stretch/>
        </p:blipFill>
        <p:spPr>
          <a:xfrm>
            <a:off x="3851280" y="2637000"/>
            <a:ext cx="865080" cy="43812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1" descr=""/>
          <p:cNvPicPr/>
          <p:nvPr/>
        </p:nvPicPr>
        <p:blipFill>
          <a:blip r:embed="rId3"/>
          <a:stretch/>
        </p:blipFill>
        <p:spPr>
          <a:xfrm>
            <a:off x="7885080" y="3730680"/>
            <a:ext cx="865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67585" descr=""/>
          <p:cNvPicPr/>
          <p:nvPr/>
        </p:nvPicPr>
        <p:blipFill>
          <a:blip r:embed="rId1"/>
          <a:stretch/>
        </p:blipFill>
        <p:spPr>
          <a:xfrm>
            <a:off x="185760" y="1471680"/>
            <a:ext cx="8772480" cy="391464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1" descr=""/>
          <p:cNvPicPr/>
          <p:nvPr/>
        </p:nvPicPr>
        <p:blipFill>
          <a:blip r:embed="rId2"/>
          <a:stretch/>
        </p:blipFill>
        <p:spPr>
          <a:xfrm>
            <a:off x="2282760" y="2637000"/>
            <a:ext cx="504720" cy="43812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1" descr=""/>
          <p:cNvPicPr/>
          <p:nvPr/>
        </p:nvPicPr>
        <p:blipFill>
          <a:blip r:embed="rId3"/>
          <a:stretch/>
        </p:blipFill>
        <p:spPr>
          <a:xfrm>
            <a:off x="5219640" y="263700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456" name="Picture 1" descr=""/>
          <p:cNvPicPr/>
          <p:nvPr/>
        </p:nvPicPr>
        <p:blipFill>
          <a:blip r:embed="rId4"/>
          <a:stretch/>
        </p:blipFill>
        <p:spPr>
          <a:xfrm>
            <a:off x="1187280" y="3184560"/>
            <a:ext cx="648000" cy="438120"/>
          </a:xfrm>
          <a:prstGeom prst="rect">
            <a:avLst/>
          </a:prstGeom>
          <a:ln w="0">
            <a:noFill/>
          </a:ln>
        </p:spPr>
      </p:pic>
      <p:pic>
        <p:nvPicPr>
          <p:cNvPr id="1457" name="Picture 1" descr=""/>
          <p:cNvPicPr/>
          <p:nvPr/>
        </p:nvPicPr>
        <p:blipFill>
          <a:blip r:embed="rId5"/>
          <a:stretch/>
        </p:blipFill>
        <p:spPr>
          <a:xfrm>
            <a:off x="1979640" y="430704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" descr=""/>
          <p:cNvPicPr/>
          <p:nvPr/>
        </p:nvPicPr>
        <p:blipFill>
          <a:blip r:embed="rId6"/>
          <a:stretch/>
        </p:blipFill>
        <p:spPr>
          <a:xfrm>
            <a:off x="4427640" y="429264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1" descr=""/>
          <p:cNvPicPr/>
          <p:nvPr/>
        </p:nvPicPr>
        <p:blipFill>
          <a:blip r:embed="rId7"/>
          <a:stretch/>
        </p:blipFill>
        <p:spPr>
          <a:xfrm>
            <a:off x="6659640" y="4826160"/>
            <a:ext cx="1081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66561" descr=""/>
          <p:cNvPicPr/>
          <p:nvPr/>
        </p:nvPicPr>
        <p:blipFill>
          <a:blip r:embed="rId1"/>
          <a:stretch/>
        </p:blipFill>
        <p:spPr>
          <a:xfrm>
            <a:off x="214200" y="1171440"/>
            <a:ext cx="8715600" cy="4515120"/>
          </a:xfrm>
          <a:prstGeom prst="rect">
            <a:avLst/>
          </a:prstGeom>
          <a:ln w="0">
            <a:noFill/>
          </a:ln>
        </p:spPr>
      </p:pic>
      <p:pic>
        <p:nvPicPr>
          <p:cNvPr id="1461" name="Picture 1" descr=""/>
          <p:cNvPicPr/>
          <p:nvPr/>
        </p:nvPicPr>
        <p:blipFill>
          <a:blip r:embed="rId2"/>
          <a:stretch/>
        </p:blipFill>
        <p:spPr>
          <a:xfrm>
            <a:off x="8028000" y="509904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65537" descr=""/>
          <p:cNvPicPr/>
          <p:nvPr/>
        </p:nvPicPr>
        <p:blipFill>
          <a:blip r:embed="rId1"/>
          <a:stretch/>
        </p:blipFill>
        <p:spPr>
          <a:xfrm>
            <a:off x="662040" y="798480"/>
            <a:ext cx="78199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64513" descr=""/>
          <p:cNvPicPr/>
          <p:nvPr/>
        </p:nvPicPr>
        <p:blipFill>
          <a:blip r:embed="rId1"/>
          <a:stretch/>
        </p:blipFill>
        <p:spPr>
          <a:xfrm>
            <a:off x="176040" y="677880"/>
            <a:ext cx="8791920" cy="61246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1" descr=""/>
          <p:cNvPicPr/>
          <p:nvPr/>
        </p:nvPicPr>
        <p:blipFill>
          <a:blip r:embed="rId2"/>
          <a:stretch/>
        </p:blipFill>
        <p:spPr>
          <a:xfrm>
            <a:off x="7956720" y="1714680"/>
            <a:ext cx="504720" cy="4381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1" descr=""/>
          <p:cNvPicPr/>
          <p:nvPr/>
        </p:nvPicPr>
        <p:blipFill>
          <a:blip r:embed="rId3"/>
          <a:stretch/>
        </p:blipFill>
        <p:spPr>
          <a:xfrm>
            <a:off x="2268360" y="5589720"/>
            <a:ext cx="935280" cy="43812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1" descr=""/>
          <p:cNvPicPr/>
          <p:nvPr/>
        </p:nvPicPr>
        <p:blipFill>
          <a:blip r:embed="rId4"/>
          <a:stretch/>
        </p:blipFill>
        <p:spPr>
          <a:xfrm>
            <a:off x="2987640" y="6137280"/>
            <a:ext cx="720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63489" descr=""/>
          <p:cNvPicPr/>
          <p:nvPr/>
        </p:nvPicPr>
        <p:blipFill>
          <a:blip r:embed="rId1"/>
          <a:stretch/>
        </p:blipFill>
        <p:spPr>
          <a:xfrm>
            <a:off x="228600" y="1590840"/>
            <a:ext cx="8686800" cy="367632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1" descr=""/>
          <p:cNvPicPr/>
          <p:nvPr/>
        </p:nvPicPr>
        <p:blipFill>
          <a:blip r:embed="rId2"/>
          <a:stretch/>
        </p:blipFill>
        <p:spPr>
          <a:xfrm>
            <a:off x="3276720" y="3127320"/>
            <a:ext cx="1150920" cy="43812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1" descr=""/>
          <p:cNvPicPr/>
          <p:nvPr/>
        </p:nvPicPr>
        <p:blipFill>
          <a:blip r:embed="rId3"/>
          <a:stretch/>
        </p:blipFill>
        <p:spPr>
          <a:xfrm>
            <a:off x="2340000" y="3645000"/>
            <a:ext cx="11509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62465" descr=""/>
          <p:cNvPicPr/>
          <p:nvPr/>
        </p:nvPicPr>
        <p:blipFill>
          <a:blip r:embed="rId1"/>
          <a:stretch/>
        </p:blipFill>
        <p:spPr>
          <a:xfrm>
            <a:off x="230040" y="189000"/>
            <a:ext cx="8734680" cy="620064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" descr=""/>
          <p:cNvPicPr/>
          <p:nvPr/>
        </p:nvPicPr>
        <p:blipFill>
          <a:blip r:embed="rId2"/>
          <a:stretch/>
        </p:blipFill>
        <p:spPr>
          <a:xfrm>
            <a:off x="7956720" y="185904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61441" descr=""/>
          <p:cNvPicPr/>
          <p:nvPr/>
        </p:nvPicPr>
        <p:blipFill>
          <a:blip r:embed="rId1"/>
          <a:stretch/>
        </p:blipFill>
        <p:spPr>
          <a:xfrm>
            <a:off x="271440" y="885960"/>
            <a:ext cx="8601120" cy="508608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" descr=""/>
          <p:cNvPicPr/>
          <p:nvPr/>
        </p:nvPicPr>
        <p:blipFill>
          <a:blip r:embed="rId2"/>
          <a:stretch/>
        </p:blipFill>
        <p:spPr>
          <a:xfrm>
            <a:off x="3132000" y="2549520"/>
            <a:ext cx="505080" cy="43812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" descr=""/>
          <p:cNvPicPr/>
          <p:nvPr/>
        </p:nvPicPr>
        <p:blipFill>
          <a:blip r:embed="rId3"/>
          <a:stretch/>
        </p:blipFill>
        <p:spPr>
          <a:xfrm>
            <a:off x="4572000" y="3083040"/>
            <a:ext cx="936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70657" descr=""/>
          <p:cNvPicPr/>
          <p:nvPr/>
        </p:nvPicPr>
        <p:blipFill>
          <a:blip r:embed="rId1"/>
          <a:stretch/>
        </p:blipFill>
        <p:spPr>
          <a:xfrm>
            <a:off x="257040" y="1400040"/>
            <a:ext cx="862992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60428" descr=""/>
          <p:cNvPicPr/>
          <p:nvPr/>
        </p:nvPicPr>
        <p:blipFill>
          <a:blip r:embed="rId1"/>
          <a:stretch/>
        </p:blipFill>
        <p:spPr>
          <a:xfrm>
            <a:off x="200160" y="1533600"/>
            <a:ext cx="8743680" cy="379080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1" descr=""/>
          <p:cNvPicPr/>
          <p:nvPr/>
        </p:nvPicPr>
        <p:blipFill>
          <a:blip r:embed="rId2"/>
          <a:stretch/>
        </p:blipFill>
        <p:spPr>
          <a:xfrm>
            <a:off x="8101080" y="270828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71681" descr=""/>
          <p:cNvPicPr/>
          <p:nvPr/>
        </p:nvPicPr>
        <p:blipFill>
          <a:blip r:embed="rId1"/>
          <a:stretch/>
        </p:blipFill>
        <p:spPr>
          <a:xfrm>
            <a:off x="190440" y="966960"/>
            <a:ext cx="8763120" cy="49240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" descr=""/>
          <p:cNvPicPr/>
          <p:nvPr/>
        </p:nvPicPr>
        <p:blipFill>
          <a:blip r:embed="rId2"/>
          <a:stretch/>
        </p:blipFill>
        <p:spPr>
          <a:xfrm>
            <a:off x="8028000" y="164304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72705" descr=""/>
          <p:cNvPicPr/>
          <p:nvPr/>
        </p:nvPicPr>
        <p:blipFill>
          <a:blip r:embed="rId1"/>
          <a:stretch/>
        </p:blipFill>
        <p:spPr>
          <a:xfrm>
            <a:off x="281160" y="2747880"/>
            <a:ext cx="85816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59410" descr=""/>
          <p:cNvPicPr/>
          <p:nvPr/>
        </p:nvPicPr>
        <p:blipFill>
          <a:blip r:embed="rId1"/>
          <a:stretch/>
        </p:blipFill>
        <p:spPr>
          <a:xfrm>
            <a:off x="214200" y="677880"/>
            <a:ext cx="8715600" cy="5991120"/>
          </a:xfrm>
          <a:prstGeom prst="rect">
            <a:avLst/>
          </a:prstGeom>
          <a:ln w="0">
            <a:noFill/>
          </a:ln>
        </p:spPr>
      </p:pic>
      <p:pic>
        <p:nvPicPr>
          <p:cNvPr id="1436" name="Picture 1" descr=""/>
          <p:cNvPicPr/>
          <p:nvPr/>
        </p:nvPicPr>
        <p:blipFill>
          <a:blip r:embed="rId2"/>
          <a:stretch/>
        </p:blipFill>
        <p:spPr>
          <a:xfrm>
            <a:off x="8028000" y="233532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58373" descr=""/>
          <p:cNvPicPr/>
          <p:nvPr/>
        </p:nvPicPr>
        <p:blipFill>
          <a:blip r:embed="rId1"/>
          <a:stretch/>
        </p:blipFill>
        <p:spPr>
          <a:xfrm>
            <a:off x="243000" y="1309680"/>
            <a:ext cx="8658000" cy="423864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1" descr=""/>
          <p:cNvPicPr/>
          <p:nvPr/>
        </p:nvPicPr>
        <p:blipFill>
          <a:blip r:embed="rId2"/>
          <a:stretch/>
        </p:blipFill>
        <p:spPr>
          <a:xfrm>
            <a:off x="8028000" y="191628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57352" descr=""/>
          <p:cNvPicPr/>
          <p:nvPr/>
        </p:nvPicPr>
        <p:blipFill>
          <a:blip r:embed="rId1"/>
          <a:stretch/>
        </p:blipFill>
        <p:spPr>
          <a:xfrm>
            <a:off x="290520" y="1224000"/>
            <a:ext cx="8562960" cy="4410000"/>
          </a:xfrm>
          <a:prstGeom prst="rect">
            <a:avLst/>
          </a:prstGeom>
          <a:ln w="0">
            <a:noFill/>
          </a:ln>
        </p:spPr>
      </p:pic>
      <p:pic>
        <p:nvPicPr>
          <p:cNvPr id="1440" name="Picture 1" descr=""/>
          <p:cNvPicPr/>
          <p:nvPr/>
        </p:nvPicPr>
        <p:blipFill>
          <a:blip r:embed="rId2"/>
          <a:stretch/>
        </p:blipFill>
        <p:spPr>
          <a:xfrm>
            <a:off x="1116000" y="2335320"/>
            <a:ext cx="504720" cy="4381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1" descr=""/>
          <p:cNvPicPr/>
          <p:nvPr/>
        </p:nvPicPr>
        <p:blipFill>
          <a:blip r:embed="rId3"/>
          <a:stretch/>
        </p:blipFill>
        <p:spPr>
          <a:xfrm>
            <a:off x="2987640" y="2320920"/>
            <a:ext cx="1297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56324" descr=""/>
          <p:cNvPicPr/>
          <p:nvPr/>
        </p:nvPicPr>
        <p:blipFill>
          <a:blip r:embed="rId1"/>
          <a:stretch/>
        </p:blipFill>
        <p:spPr>
          <a:xfrm>
            <a:off x="219240" y="808200"/>
            <a:ext cx="8705520" cy="5429160"/>
          </a:xfrm>
          <a:prstGeom prst="rect">
            <a:avLst/>
          </a:prstGeom>
          <a:ln w="0">
            <a:noFill/>
          </a:ln>
        </p:spPr>
      </p:pic>
      <p:pic>
        <p:nvPicPr>
          <p:cNvPr id="1443" name="Picture 1" descr=""/>
          <p:cNvPicPr/>
          <p:nvPr/>
        </p:nvPicPr>
        <p:blipFill>
          <a:blip r:embed="rId2"/>
          <a:stretch/>
        </p:blipFill>
        <p:spPr>
          <a:xfrm>
            <a:off x="7970760" y="1873080"/>
            <a:ext cx="50508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55300" descr=""/>
          <p:cNvPicPr/>
          <p:nvPr/>
        </p:nvPicPr>
        <p:blipFill>
          <a:blip r:embed="rId1"/>
          <a:stretch/>
        </p:blipFill>
        <p:spPr>
          <a:xfrm>
            <a:off x="1081080" y="974880"/>
            <a:ext cx="698184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54276" descr=""/>
          <p:cNvPicPr/>
          <p:nvPr/>
        </p:nvPicPr>
        <p:blipFill>
          <a:blip r:embed="rId1"/>
          <a:stretch/>
        </p:blipFill>
        <p:spPr>
          <a:xfrm>
            <a:off x="257040" y="870120"/>
            <a:ext cx="8629920" cy="543852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1" descr=""/>
          <p:cNvPicPr/>
          <p:nvPr/>
        </p:nvPicPr>
        <p:blipFill>
          <a:blip r:embed="rId2"/>
          <a:stretch/>
        </p:blipFill>
        <p:spPr>
          <a:xfrm>
            <a:off x="8028000" y="357336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52231" descr=""/>
          <p:cNvPicPr/>
          <p:nvPr/>
        </p:nvPicPr>
        <p:blipFill>
          <a:blip r:embed="rId1"/>
          <a:stretch/>
        </p:blipFill>
        <p:spPr>
          <a:xfrm>
            <a:off x="262080" y="739800"/>
            <a:ext cx="8619840" cy="5857920"/>
          </a:xfrm>
          <a:prstGeom prst="rect">
            <a:avLst/>
          </a:prstGeom>
          <a:ln w="0">
            <a:noFill/>
          </a:ln>
        </p:spPr>
      </p:pic>
      <p:pic>
        <p:nvPicPr>
          <p:cNvPr id="1448" name="Picture 1" descr=""/>
          <p:cNvPicPr/>
          <p:nvPr/>
        </p:nvPicPr>
        <p:blipFill>
          <a:blip r:embed="rId2"/>
          <a:stretch/>
        </p:blipFill>
        <p:spPr>
          <a:xfrm>
            <a:off x="8028000" y="344340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3:14:3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